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  <p:custShowLst>
    <p:custShow name="Study Guide" id="0">
      <p:sldLst>
        <p:sld r:id="rId53"/>
        <p:sld r:id="rId54"/>
        <p:sld r:id="rId55"/>
        <p:sld r:id="rId56"/>
        <p:sld r:id="rId5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slide" Target="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l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"/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7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l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0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0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2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3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2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8"/>
          <p:cNvSpPr/>
          <p:nvPr/>
        </p:nvSpPr>
        <p:spPr>
          <a:xfrm>
            <a:off x="1447920" y="32004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3: Matter—Properties an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4"/>
          <p:cNvSpPr/>
          <p:nvPr/>
        </p:nvSpPr>
        <p:spPr>
          <a:xfrm>
            <a:off x="762120" y="1784520"/>
            <a:ext cx="739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prop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824040" y="3070080"/>
            <a:ext cx="7242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forming 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turning green in the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762120" y="1676520"/>
            <a:ext cx="8080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can change form–an important concept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762120" y="259092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hysical and chemical properties can change with specific environmental conditions, such as temperature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8" descr="TABLE03"/>
          <p:cNvPicPr/>
          <p:nvPr/>
        </p:nvPicPr>
        <p:blipFill>
          <a:blip r:embed="rId1"/>
          <a:stretch/>
        </p:blipFill>
        <p:spPr>
          <a:xfrm>
            <a:off x="3048120" y="3962520"/>
            <a:ext cx="3562200" cy="1914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Observing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4" descr="SO_Objectives"/>
          <p:cNvPicPr/>
          <p:nvPr/>
        </p:nvPicPr>
        <p:blipFill>
          <a:blip r:embed="rId1"/>
          <a:stretch/>
        </p:blipFill>
        <p:spPr>
          <a:xfrm>
            <a:off x="55728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6"/>
          <p:cNvSpPr/>
          <p:nvPr/>
        </p:nvSpPr>
        <p:spPr>
          <a:xfrm>
            <a:off x="533520" y="166536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ysical change and list several common phys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7" descr="SO_RevVocab"/>
          <p:cNvPicPr/>
          <p:nvPr/>
        </p:nvPicPr>
        <p:blipFill>
          <a:blip r:embed="rId2"/>
          <a:stretch/>
        </p:blipFill>
        <p:spPr>
          <a:xfrm>
            <a:off x="557280" y="4352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8"/>
          <p:cNvSpPr/>
          <p:nvPr/>
        </p:nvSpPr>
        <p:spPr>
          <a:xfrm>
            <a:off x="557280" y="5041800"/>
            <a:ext cx="8129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b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ly, direct information gathering about a phenom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533520" y="25812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mical change and list several indications that a chemical change has take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aw of conservation of mass to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2"/>
          <p:cNvSpPr/>
          <p:nvPr/>
        </p:nvSpPr>
        <p:spPr>
          <a:xfrm>
            <a:off x="2314440" y="4584600"/>
            <a:ext cx="6524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ter can undergo physical and chem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3" descr="MainIdea"/>
          <p:cNvPicPr/>
          <p:nvPr/>
        </p:nvPicPr>
        <p:blipFill>
          <a:blip r:embed="rId1"/>
          <a:stretch/>
        </p:blipFill>
        <p:spPr>
          <a:xfrm>
            <a:off x="641520" y="4602240"/>
            <a:ext cx="1649160" cy="409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SO_NewVocab"/>
          <p:cNvPicPr/>
          <p:nvPr/>
        </p:nvPicPr>
        <p:blipFill>
          <a:blip r:embed="rId2"/>
          <a:stretch/>
        </p:blipFill>
        <p:spPr>
          <a:xfrm>
            <a:off x="557280" y="1085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5"/>
          <p:cNvSpPr/>
          <p:nvPr/>
        </p:nvSpPr>
        <p:spPr>
          <a:xfrm>
            <a:off x="595440" y="1898640"/>
            <a:ext cx="594360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ys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as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7"/>
          <p:cNvSpPr/>
          <p:nvPr/>
        </p:nvSpPr>
        <p:spPr>
          <a:xfrm>
            <a:off x="682560" y="173340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known as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682560" y="314316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ase chang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ransition of matter from one state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ling, freezing, melting, and condensing all describe phase chang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671400" y="17017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682560" y="309888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ing, rusting, exploding, burn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xid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ll terms that describe chemical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682560" y="1812960"/>
            <a:ext cx="792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conservation of ma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682560" y="3222720"/>
            <a:ext cx="777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the reactants equals the mass of 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6" descr="SO_Objectives"/>
          <p:cNvPicPr/>
          <p:nvPr/>
        </p:nvPicPr>
        <p:blipFill>
          <a:blip r:embed="rId1"/>
          <a:stretch/>
        </p:blipFill>
        <p:spPr>
          <a:xfrm>
            <a:off x="55728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8"/>
          <p:cNvSpPr/>
          <p:nvPr/>
        </p:nvSpPr>
        <p:spPr>
          <a:xfrm>
            <a:off x="533520" y="1673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xtures an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9" descr="SO_RevVocab"/>
          <p:cNvPicPr/>
          <p:nvPr/>
        </p:nvPicPr>
        <p:blipFill>
          <a:blip r:embed="rId2"/>
          <a:stretch/>
        </p:blipFill>
        <p:spPr>
          <a:xfrm>
            <a:off x="557280" y="40719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20"/>
          <p:cNvSpPr/>
          <p:nvPr/>
        </p:nvSpPr>
        <p:spPr>
          <a:xfrm>
            <a:off x="557280" y="4789440"/>
            <a:ext cx="7520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ubst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orm of matter that has a uniform and unchanging composition; also known as a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3"/>
          <p:cNvSpPr/>
          <p:nvPr/>
        </p:nvSpPr>
        <p:spPr>
          <a:xfrm>
            <a:off x="533520" y="222732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as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xtures as homogeneous or heterogene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scribe several techniques used to separate mix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8"/>
          <p:cNvSpPr/>
          <p:nvPr/>
        </p:nvSpPr>
        <p:spPr>
          <a:xfrm>
            <a:off x="609480" y="2000160"/>
            <a:ext cx="792504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Properties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Changes in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3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ixtures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4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Elements and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2"/>
          <p:cNvSpPr/>
          <p:nvPr/>
        </p:nvSpPr>
        <p:spPr>
          <a:xfrm>
            <a:off x="2314440" y="487692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everyday matter occurs as mixtures—combinations of two or more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3" descr="MainIdea"/>
          <p:cNvPicPr/>
          <p:nvPr/>
        </p:nvPicPr>
        <p:blipFill>
          <a:blip r:embed="rId1"/>
          <a:stretch/>
        </p:blipFill>
        <p:spPr>
          <a:xfrm>
            <a:off x="641520" y="4894200"/>
            <a:ext cx="1649160" cy="4096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SO_NewVocab"/>
          <p:cNvPicPr/>
          <p:nvPr/>
        </p:nvPicPr>
        <p:blipFill>
          <a:blip r:embed="rId2"/>
          <a:stretch/>
        </p:blipFill>
        <p:spPr>
          <a:xfrm>
            <a:off x="557280" y="1039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5"/>
          <p:cNvSpPr/>
          <p:nvPr/>
        </p:nvSpPr>
        <p:spPr>
          <a:xfrm>
            <a:off x="533520" y="1752480"/>
            <a:ext cx="3809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eterogen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omogen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6"/>
          <p:cNvSpPr/>
          <p:nvPr/>
        </p:nvSpPr>
        <p:spPr>
          <a:xfrm>
            <a:off x="4457880" y="1752480"/>
            <a:ext cx="377172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rystal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ubl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7"/>
          <p:cNvSpPr/>
          <p:nvPr/>
        </p:nvSpPr>
        <p:spPr>
          <a:xfrm>
            <a:off x="682560" y="1828800"/>
            <a:ext cx="800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ix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682560" y="320040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ixture where th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9"/>
          <p:cNvSpPr/>
          <p:nvPr/>
        </p:nvSpPr>
        <p:spPr>
          <a:xfrm>
            <a:off x="682560" y="1752480"/>
            <a:ext cx="808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mixtures are also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682560" y="2793960"/>
            <a:ext cx="808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ixture where the individual substances remain distin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3" descr="TABLE03"/>
          <p:cNvPicPr/>
          <p:nvPr/>
        </p:nvPicPr>
        <p:blipFill>
          <a:blip r:embed="rId1"/>
          <a:stretch/>
        </p:blipFill>
        <p:spPr>
          <a:xfrm>
            <a:off x="2502000" y="1828800"/>
            <a:ext cx="6261120" cy="38926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1" descr="CIM"/>
          <p:cNvPicPr/>
          <p:nvPr/>
        </p:nvPicPr>
        <p:blipFill>
          <a:blip r:embed="rId2"/>
          <a:stretch/>
        </p:blipFill>
        <p:spPr>
          <a:xfrm>
            <a:off x="45720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4"/>
          <p:cNvSpPr/>
          <p:nvPr/>
        </p:nvSpPr>
        <p:spPr>
          <a:xfrm>
            <a:off x="671400" y="1650960"/>
            <a:ext cx="80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Filtr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echnique that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671400" y="2981160"/>
            <a:ext cx="8091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istil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eparation techniqu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rystalliz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eparation technique for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eparating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671400" y="1800360"/>
            <a:ext cx="8167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ublim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rocess of a solid changing directly to a gas, which can be used to separate mixtures of solids when one sublimates and the other doe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71400" y="3552840"/>
            <a:ext cx="816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romatograph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eparating Mixture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6"/>
          <p:cNvSpPr/>
          <p:nvPr/>
        </p:nvSpPr>
        <p:spPr>
          <a:xfrm>
            <a:off x="533520" y="18255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elements and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7" descr="SO_RevVocab"/>
          <p:cNvPicPr/>
          <p:nvPr/>
        </p:nvPicPr>
        <p:blipFill>
          <a:blip r:embed="rId2"/>
          <a:stretch/>
        </p:blipFill>
        <p:spPr>
          <a:xfrm>
            <a:off x="609480" y="41940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8"/>
          <p:cNvSpPr/>
          <p:nvPr/>
        </p:nvSpPr>
        <p:spPr>
          <a:xfrm>
            <a:off x="817560" y="4903920"/>
            <a:ext cx="779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por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lation of one part to another or to the whole with respect to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533520" y="237960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rganization of elements in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ll compounds obey the laws of definite and multiple pro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12"/>
          <p:cNvSpPr/>
          <p:nvPr/>
        </p:nvSpPr>
        <p:spPr>
          <a:xfrm>
            <a:off x="2314440" y="457200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ound is a combination of two or more elemen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3" descr="MainIdea"/>
          <p:cNvPicPr/>
          <p:nvPr/>
        </p:nvPicPr>
        <p:blipFill>
          <a:blip r:embed="rId1"/>
          <a:stretch/>
        </p:blipFill>
        <p:spPr>
          <a:xfrm>
            <a:off x="641520" y="4589640"/>
            <a:ext cx="1649160" cy="4093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SO_NewVocab"/>
          <p:cNvPicPr/>
          <p:nvPr/>
        </p:nvPicPr>
        <p:blipFill>
          <a:blip r:embed="rId2"/>
          <a:stretch/>
        </p:blipFill>
        <p:spPr>
          <a:xfrm>
            <a:off x="53352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5"/>
          <p:cNvSpPr/>
          <p:nvPr/>
        </p:nvSpPr>
        <p:spPr>
          <a:xfrm>
            <a:off x="533520" y="1913040"/>
            <a:ext cx="380988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457880" y="1913040"/>
            <a:ext cx="41526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definite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cent by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multiple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7"/>
          <p:cNvSpPr/>
          <p:nvPr/>
        </p:nvSpPr>
        <p:spPr>
          <a:xfrm>
            <a:off x="682560" y="1650960"/>
            <a:ext cx="800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682560" y="2955960"/>
            <a:ext cx="808056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 elements occur naturally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name and a one, two, or three-lette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s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2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"/>
          <p:cNvSpPr/>
          <p:nvPr/>
        </p:nvSpPr>
        <p:spPr>
          <a:xfrm>
            <a:off x="533520" y="18176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haracteristics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5" descr="SO_RevVocab"/>
          <p:cNvPicPr/>
          <p:nvPr/>
        </p:nvPicPr>
        <p:blipFill>
          <a:blip r:embed="rId2"/>
          <a:stretch/>
        </p:blipFill>
        <p:spPr>
          <a:xfrm>
            <a:off x="557280" y="39495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6"/>
          <p:cNvSpPr/>
          <p:nvPr/>
        </p:nvSpPr>
        <p:spPr>
          <a:xfrm>
            <a:off x="557280" y="4813200"/>
            <a:ext cx="691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ns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atio that compares the mass of an object to its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533520" y="236232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the physical states of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671400" y="1828800"/>
            <a:ext cx="815364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s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the same group have similar chemical and physica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is called periodic because the pattern of similar properties repeats from period to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lement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682560" y="1650960"/>
            <a:ext cx="792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82560" y="2679840"/>
            <a:ext cx="81565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matter in the universe exists as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salt, NaCl, and water,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, are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85800" y="4622760"/>
            <a:ext cx="8077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lements, compounds can be broken into smaller components by chemical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6" descr="C03-02A-874637"/>
          <p:cNvPicPr/>
          <p:nvPr/>
        </p:nvPicPr>
        <p:blipFill>
          <a:blip r:embed="rId1"/>
          <a:stretch/>
        </p:blipFill>
        <p:spPr>
          <a:xfrm>
            <a:off x="5211720" y="1695600"/>
            <a:ext cx="3213000" cy="409572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7"/>
          <p:cNvSpPr/>
          <p:nvPr/>
        </p:nvSpPr>
        <p:spPr>
          <a:xfrm>
            <a:off x="682560" y="1828800"/>
            <a:ext cx="434664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a compounds into its elements often requires external energy, such as heat or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electrolysis of water to form hydrogen and oxyge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685800" y="1654200"/>
            <a:ext cx="7547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erties of a compound are different from its componen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6" descr="C03-06C-828378-08"/>
          <p:cNvPicPr/>
          <p:nvPr/>
        </p:nvPicPr>
        <p:blipFill>
          <a:blip r:embed="rId1"/>
          <a:stretch/>
        </p:blipFill>
        <p:spPr>
          <a:xfrm>
            <a:off x="2133720" y="2819520"/>
            <a:ext cx="4889520" cy="29970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4"/>
          <p:cNvSpPr/>
          <p:nvPr/>
        </p:nvSpPr>
        <p:spPr>
          <a:xfrm>
            <a:off x="685800" y="1816200"/>
            <a:ext cx="7391520" cy="29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definite propor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 compound is always composed of the same elements in the same proportion by mass, no matter how large or small th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69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is always composed of 2 Hydrogen to 1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685800" y="18288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amounts are expressed as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cent by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6" descr="percent by mass"/>
          <p:cNvPicPr/>
          <p:nvPr/>
        </p:nvPicPr>
        <p:blipFill>
          <a:blip r:embed="rId1"/>
          <a:stretch/>
        </p:blipFill>
        <p:spPr>
          <a:xfrm>
            <a:off x="1190520" y="3809880"/>
            <a:ext cx="7061400" cy="8971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696960" y="167652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demonstrates that the percentages of elements in sucrose remain the same despite differences in sample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6" descr="TABLE03"/>
          <p:cNvPicPr/>
          <p:nvPr/>
        </p:nvPicPr>
        <p:blipFill>
          <a:blip r:embed="rId1"/>
          <a:stretch/>
        </p:blipFill>
        <p:spPr>
          <a:xfrm>
            <a:off x="1422360" y="3124080"/>
            <a:ext cx="6273720" cy="26798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671400" y="1674720"/>
            <a:ext cx="81676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multiple propor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when different compounds are formed by a combination of the same elements, different masses of one element combine with the same relative mass of the other element in whole number ra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671400" y="4237200"/>
            <a:ext cx="8091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xide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ter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699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ompounds formed from the sam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699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gen mass the same in both compounds but oxygen mass is a 2:1 ratio in peroxide to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Multipl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TABLE03"/>
          <p:cNvPicPr/>
          <p:nvPr/>
        </p:nvPicPr>
        <p:blipFill>
          <a:blip r:embed="rId1"/>
          <a:stretch/>
        </p:blipFill>
        <p:spPr>
          <a:xfrm>
            <a:off x="533520" y="1906560"/>
            <a:ext cx="8076960" cy="388476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Multipl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6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495360" y="18860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common states of matter are solid, liquid, and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495360" y="2836800"/>
            <a:ext cx="803916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properties can be observed without altering a substance’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properties describe a substance’s ability to combine with or change into one or more new subst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 conditions can affect both physical and chemical proper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9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4" descr="SO_NewVocab"/>
          <p:cNvPicPr/>
          <p:nvPr/>
        </p:nvPicPr>
        <p:blipFill>
          <a:blip r:embed="rId1"/>
          <a:stretch/>
        </p:blipFill>
        <p:spPr>
          <a:xfrm>
            <a:off x="557280" y="1085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5"/>
          <p:cNvSpPr/>
          <p:nvPr/>
        </p:nvSpPr>
        <p:spPr>
          <a:xfrm>
            <a:off x="588960" y="1884240"/>
            <a:ext cx="3525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tat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2314440" y="4738680"/>
            <a:ext cx="667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mon substances exist as solids, liquids, and gases, which have diverse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7" descr="MainIdea"/>
          <p:cNvPicPr/>
          <p:nvPr/>
        </p:nvPicPr>
        <p:blipFill>
          <a:blip r:embed="rId2"/>
          <a:stretch/>
        </p:blipFill>
        <p:spPr>
          <a:xfrm>
            <a:off x="641520" y="4807080"/>
            <a:ext cx="1547640" cy="4093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8"/>
          <p:cNvSpPr/>
          <p:nvPr/>
        </p:nvSpPr>
        <p:spPr>
          <a:xfrm>
            <a:off x="4800600" y="1884240"/>
            <a:ext cx="3525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ys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xtens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ntens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6"/>
          <p:cNvSpPr/>
          <p:nvPr/>
        </p:nvSpPr>
        <p:spPr>
          <a:xfrm>
            <a:off x="495360" y="180972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sical change alters the physical properties of a substance without changing it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495360" y="2743200"/>
            <a:ext cx="834372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change, also known as a chemical reaction, involves a change in a substance’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chemical reaction, reactants form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w of conservation of mass states that mass is neither created nor destroyed during a chemical reaction; it is con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ma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495360" y="18986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is a physical blend of two or more pure substances in any prop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495360" y="2849400"/>
            <a:ext cx="80391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are homogeneous mixt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can be separated by physical means. Common separation techniques include filtration, distillation, crystallization, sublimation, and chromatograp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4"/>
          <p:cNvSpPr/>
          <p:nvPr/>
        </p:nvSpPr>
        <p:spPr>
          <a:xfrm>
            <a:off x="495360" y="19400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not be broken down into simpler substances by physical or chemic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495360" y="2890800"/>
            <a:ext cx="80391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are organized in the periodic table of the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are chemical combinations of two or more elements and their properties differ from the properties of their component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6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0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8"/>
          <p:cNvSpPr/>
          <p:nvPr/>
        </p:nvSpPr>
        <p:spPr>
          <a:xfrm>
            <a:off x="495360" y="182880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definite proportions states that a compound is always composed of the same elements in the same propor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360" y="4227480"/>
            <a:ext cx="803916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multiple proportions states that if elements form more than one compound, those compounds will have compositions that are whole-number multiples of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0" descr="percent by mass"/>
          <p:cNvPicPr/>
          <p:nvPr/>
        </p:nvPicPr>
        <p:blipFill>
          <a:blip r:embed="rId1"/>
          <a:stretch/>
        </p:blipFill>
        <p:spPr>
          <a:xfrm>
            <a:off x="1469880" y="3200400"/>
            <a:ext cx="6188400" cy="78588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3"/>
          <p:cNvSpPr/>
          <p:nvPr/>
        </p:nvSpPr>
        <p:spPr>
          <a:xfrm>
            <a:off x="758880" y="1724040"/>
            <a:ext cx="8080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anything that has mass and takes up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758880" y="2765520"/>
            <a:ext cx="82328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everything around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with a uniform and unchanging composition is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758880" y="1600200"/>
            <a:ext cx="8232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orms of matter, either solid, liquid, or gas, are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tates of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758880" y="2743200"/>
            <a:ext cx="6251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ol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form of matter that have their own definite shape and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C03-01C-828378-08"/>
          <p:cNvPicPr/>
          <p:nvPr/>
        </p:nvPicPr>
        <p:blipFill>
          <a:blip r:embed="rId1"/>
          <a:srcRect l="4448" t="0" r="8985" b="36000"/>
          <a:stretch/>
        </p:blipFill>
        <p:spPr>
          <a:xfrm>
            <a:off x="6934320" y="2728800"/>
            <a:ext cx="1736640" cy="14637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C03-02C-828378-08"/>
          <p:cNvPicPr/>
          <p:nvPr/>
        </p:nvPicPr>
        <p:blipFill>
          <a:blip r:embed="rId2"/>
          <a:stretch/>
        </p:blipFill>
        <p:spPr>
          <a:xfrm>
            <a:off x="7010280" y="4419720"/>
            <a:ext cx="1676520" cy="14983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8"/>
          <p:cNvSpPr/>
          <p:nvPr/>
        </p:nvSpPr>
        <p:spPr>
          <a:xfrm>
            <a:off x="758880" y="4343400"/>
            <a:ext cx="6251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iqu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form of matter that have a definite volume but take the shape of the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9"/>
          <p:cNvSpPr/>
          <p:nvPr/>
        </p:nvSpPr>
        <p:spPr>
          <a:xfrm>
            <a:off x="762120" y="1727280"/>
            <a:ext cx="6143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Ga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definite shape or volume. They expand to fill their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758880" y="3174840"/>
            <a:ext cx="6175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Vap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2" descr="C03-03C-828378-08"/>
          <p:cNvPicPr/>
          <p:nvPr/>
        </p:nvPicPr>
        <p:blipFill>
          <a:blip r:embed="rId1"/>
          <a:stretch/>
        </p:blipFill>
        <p:spPr>
          <a:xfrm>
            <a:off x="7080120" y="1523880"/>
            <a:ext cx="1683000" cy="14493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tates of Matter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1" descr="CIM"/>
          <p:cNvPicPr/>
          <p:nvPr/>
        </p:nvPicPr>
        <p:blipFill>
          <a:blip r:embed="rId2"/>
          <a:stretch/>
        </p:blipFill>
        <p:spPr>
          <a:xfrm>
            <a:off x="45720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2"/>
          <p:cNvSpPr/>
          <p:nvPr/>
        </p:nvSpPr>
        <p:spPr>
          <a:xfrm>
            <a:off x="758880" y="1828800"/>
            <a:ext cx="823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ysical proper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5" descr="TABLE03"/>
          <p:cNvPicPr/>
          <p:nvPr/>
        </p:nvPicPr>
        <p:blipFill>
          <a:blip r:embed="rId1"/>
          <a:stretch/>
        </p:blipFill>
        <p:spPr>
          <a:xfrm>
            <a:off x="838080" y="3444840"/>
            <a:ext cx="7925040" cy="23464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762120" y="172728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tensive 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mass, length, and volume, ar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762120" y="3174840"/>
            <a:ext cx="777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ntensive 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density, are dependent *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Properties of Matter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4-09-15T14:05:39Z</dcterms:modified>
  <cp:revision>126</cp:revision>
  <dc:subject/>
  <dc:title>Chemistry: Matter and Change</dc:title>
</cp:coreProperties>
</file>